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491-0028-43D9-85E4-5EE3929E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F4A-F66E-47E3-9AD0-CFC63840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49B3C-7ADD-478C-879B-D85CACF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D18C-7B1C-4D64-842E-0D0052D8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8B6B-D78C-467C-8EF3-FB0D2191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CD2B-3C89-4D7F-BB10-141C33C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20095-8502-4B2E-B65E-51831E49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EA91D-EC31-413D-9FFA-E00128A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30B07-8A1D-435E-A481-E38BCC39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473D6-35EA-47EA-A530-D441262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4B849-6095-42D1-AE24-01CD3720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023CC-A4D5-4043-B3EE-2E7F563E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9B1-F361-4B05-A1DB-D73A5292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7AAC2-5DF2-4C87-A2B9-216CFA0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1D948-C766-45ED-AC84-1FC0F27C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0EEDB-B964-43FB-B3E5-85F9EFE5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3F1D0-A42C-45FB-A21E-7646D03E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B1327-504F-491F-BB16-0884AA5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1D8FE-EB8B-40C1-9E8E-568B2D4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B8265-0420-4C91-A449-037D77E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799A-ECE6-4F3E-AEAD-95273D2F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2F58C-B3A6-43E8-AE15-639DC81E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4B478-2761-435B-B7CB-0EADE198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A67-24A5-4D15-A1EA-727AFF71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CF6FE-903E-4146-A3C0-0101E4C2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0F309-8A9E-40AF-97C6-DB8398F3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ED6B6-CFA5-4189-A019-BA14782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D0AB0-5C3E-40E0-A5FF-871475ED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F8F0B-6001-489F-9E5D-67E97A84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C55F-2DA2-470C-8896-49625D09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555BD-7A91-413D-91EF-03B525C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45C87-9536-4B71-A6B2-7F33146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FA079-D8F2-4668-8E97-0A145C9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06A03-F251-4083-B6FC-9DB930FF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FCC2-0B3E-4059-93CD-96CE5F7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A869D-0921-4E2C-93E1-30FC8A5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07223-C01E-4709-B6D6-0DA6D29E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B29F3-7CC9-4740-966C-48B7A3FA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7916A-268C-4D34-9381-FA0F02B1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B5FC-BCCB-44D5-BCCA-650F36EA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8E998-9465-4FD3-9225-2FF4327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E977F-A877-42B2-9A89-A19C0F3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C299C-8D8A-47F2-A3D4-BB896D4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FDDB-C487-4C22-9E99-6BD53CD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3D58D-8563-41EF-BD60-02FF9B9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1117-2960-4299-8B4C-6E9BADF5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32539-ADD5-48A2-8598-96ED349B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6086A-D2CC-4426-B54A-92C02CD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77647-EDB7-4BAF-9AE7-5845883E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8958B-9723-4137-A591-1B1394ED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A1434-BAE3-4055-A3E3-5ED616A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F3D56-C66A-4AC1-80CB-30121CF9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4AB49-5B2E-42FD-BB6B-E1CDCCE0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26B4A-87D6-4C2B-8BA7-811AED5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76EF1-8D40-4941-A3B3-AE9155AF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A7BBC-807E-4AB5-A73A-A1021AB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9AD6-28EA-479B-8EE8-BF14D7EF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F6DBE-72FD-4018-B10B-A24AA5DC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38507-D5B4-47FF-BCDF-D5C46D02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135E5-D1C7-412F-BE40-38F20BB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0D812-AF43-4DE7-AE91-FA8E774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19D67-F404-40A5-AC99-DDBB6E33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23B8E-0ACA-43FF-A7E7-8CF30D0D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56E45-2B9F-4D05-AB48-DC241D59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40AB3-30C9-4776-8B53-F278EEF0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D9C48-420C-445C-8298-4AB5762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21FE4-4B0C-406E-A0A8-99A9C71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9DFE-5843-4C8C-9BEC-64DA4B98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6C804-47D0-47F6-BDBC-8B53195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67BA0-B7BE-4196-A5DE-DD5E20F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79426-9F03-416D-806A-0D27BCA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F7E5A-F7E7-4F48-8729-B5FAF23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A005D-4160-4E05-B40B-90E6A86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DDF22-0533-4C13-829C-4FC012F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88DE0-69FE-4889-BF83-5C33366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7C145-B6F6-40A2-981E-73346991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E7444-06B7-4F1B-B56C-14C34842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429C5-BC8D-43E0-9575-7A44C075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E53-6EFD-4ABE-869A-8C53C767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64CBE-1238-47E0-A0B7-DCF3D8B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9AA99-2B5C-4BAA-BA30-D13CA93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EF5D6-0A19-4AA0-BD58-B610DD7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BB656-EDF0-438C-8F80-D6D3FD72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DB5CE-F497-4150-A73D-66EA5C08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E6EE2-745F-42CE-B18B-5E89072A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B1D9B-2E4E-4D7C-BA21-D418CBE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9B6C9-92EB-49ED-B459-EEA9873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BC7B7-1B33-45BE-BE28-5495817A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F22F8-9EF9-4356-BBAC-CC1BE10D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3E80-C838-4778-92E1-E42F175C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7489D-5D62-4133-A4AD-14C0210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6E2CC-27B2-4268-A96C-3892F09E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5EAA4-4769-4E24-A61B-E372A313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7C0EF-9023-4480-B152-F45BE948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88A28-5BA5-46E5-A398-11E22C9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C0F2E-E18F-4A82-8F0B-6A672662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8FF8F-1AB8-46CD-A1A9-FDE6D30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AF284-4342-4667-B9DB-6651B14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3D23D-A3C8-43BC-B15C-9F38BFD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DB7FD-2D84-48DA-9FD9-248291C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CDD0-FF32-4B0F-957B-B2D518D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D2DCC-E039-409E-B514-421BDB42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F07B8-CB9A-411C-91FD-1C106C94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F4425-C563-4592-AE2F-EC8E0339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68892-2A92-44C7-ACA6-6FA8A1A9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C80E2-5BA6-4666-A440-72D0655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CCD63-E6BA-4708-B9C1-579A259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AE2B7-BBFB-48B0-98BF-67EEED2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FBCDC-011C-4513-A5B9-014DAD38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96B3F-012A-4595-AC3A-10DE859E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8A80CA-DD1F-443B-B1CC-0058A10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094-6557-415D-9ABB-1A31CCCA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7CE8-F7A8-44E1-A366-0E791CBF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BB547-FF60-4D9C-9041-9514908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037F3-A788-46DB-A27A-A25ACCF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20B0F-8BA6-468C-828F-9D6B35B0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4173F-04C4-40EE-B033-ABD5B5A5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6D26A-7F19-4C6D-9549-D9ABA454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1F7CF-E10A-48DD-87A0-69C2293C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B5E79-D049-4996-A8F9-C9112103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94204-74BF-420E-89EF-275CFA6D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86FC7-F38C-498A-95C1-461BD9FC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72852-04E0-4E6D-A97F-3514542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F53C-179D-43CE-8D46-EEEEADF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3DFDB6-BD2C-4C2C-A0A4-140A45A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7A128-956F-4289-AC86-DEC0107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B727D-53CD-400A-9E42-38205C7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E2D443-4273-4DC7-911C-47FEE29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1239B-0F80-45D1-9313-7067738D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1FC75-F8A9-4188-9E5B-7B3F6785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CAF50-C729-42D0-9DE2-91180F51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280B0-917D-44AA-ADB1-5DAC1868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52C4C-FF48-45E4-AE5A-363ECBE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8AD76-F867-4F2D-A6D9-8F4E8FB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8CDA-EF81-4EEC-9B95-78FEC56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50D14-7DD7-4CA5-8E4A-A4F9B0B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1FD73-7E95-4E6A-920D-D336E90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3E71E-4B42-4D0C-939C-8DF06767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E1BDC-A26F-483D-A118-35CCCFD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515D4-FA96-48E4-B65A-D5821A9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25117-C703-4009-B41A-A7E0B78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08949-7BC9-4484-9709-C60A740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EEFAC1-4845-4623-A277-94F0A4FB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CA374-B07A-4155-A2FC-6D9EF619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03255-FBA5-4970-8DD4-6DBAF98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F45F-AA3B-42E6-AD39-229F2A07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F58E0D-2F7B-468E-8871-5DEB82CF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1799E-A5FD-451A-94E8-24A4D0E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0532F-7EC6-4946-A48B-80FDF899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FB8C0-F34B-4D1B-83A1-49FCA1CF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3DE6E-A831-4A2A-846A-5385DC3D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91AFF-D523-493C-85A8-37B3E2B8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BF34D0-0890-4D14-90AA-DE80992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B1300-A50B-4D46-8C2E-E4243C0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F126D-01AA-4379-A7B8-0E5A1857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B8A85-7026-4B80-B220-4B4EBB63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E21F-0F3D-4E7B-BE43-B156AF3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1DBA5-B0D9-4A7B-BA33-16BEE05C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1F1606-71B7-4DF9-8448-883C209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C7712-5E4E-41AA-8008-CCF2B87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DAEDE-C2C3-488C-9AA9-3BB4CC8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47DC15-1D8C-4F19-9773-5DFFBCF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A16D4-FB02-4B37-8C97-72D5C619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BFADB-169F-4C45-971C-8F80875D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BEEF30-369C-4FE7-8445-DBF9439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48632-DD46-4F4B-97AC-B997FB4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9D8C62-FF5B-4B47-8B0A-CFCD394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4FE0-0558-433C-851C-E16E6F01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E1908-2C0B-49A3-B26F-9C144B9C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9E3E4-A0B1-40D6-9E77-E65E4B7B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A3896E-A47A-4CE1-B3EB-40B1FFB5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1B8AA-2ED2-474C-B060-E7EE1268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DAA25-A904-49B7-ABAF-727838B2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571B1A-4921-4636-BAAA-A0DC2A66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25B0E-96A2-4688-A801-9C40D662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A7529-1578-4197-BB89-DC2AEA2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DC2D4-B7C8-48CC-8519-36EF968B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2DFED-A896-4268-A464-6565EE6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F6F8F-A62B-494E-90E7-F5D865C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202052-AA83-4542-8F1A-6C78D38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61E9A-46D9-4B7F-8677-821D571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17FC9-8319-49A0-9E70-6EA76E1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F4926-24B3-432B-9DE1-CB763CAE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BB234B-1495-45A5-9B19-72A4DFBB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FB134E-9AFC-40D5-BD29-7B875BE1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2E071-7809-4C71-A458-1490BD6E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CE1966-9A94-408A-9324-404C33B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7EEDD4-3BB8-403B-ADB2-B6C8EE3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3B94C-01C8-42B5-B583-D35B356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6104-E91C-4EE3-B191-10C9293E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6B90C-4D03-4C94-9B25-F427E7A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A22C5-E5FA-4FC3-8B82-62ACA75F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02168C-8CEA-48F8-92C1-8E9F610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B8CA5-4F85-415B-96C3-5015E80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9F0BE3-6789-43C2-B73E-3B8D87B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0BA5E-366F-4AC7-A518-66277866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7C93CB-CB8A-4A59-96B3-F9FCB073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1EEE-F801-4CC2-8428-7108A0BA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F3AA-9E6A-492B-B4AC-8799BC54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B5E-A394-4699-99D7-F4AC9B51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4314-FF05-46E3-AD00-033B06A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18B0-D2AF-4B17-A1B6-F3E8B63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DEC3-6275-409E-84EE-74E59CB6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32E71-422F-4490-9536-A986FFB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C291-3672-4516-90AF-BD6B807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AC343-194D-461E-914A-20A149DD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B4CB-6416-410B-80E7-B1A91050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ADB5-2726-4B58-9DFF-AEBFD267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ADEB-D767-41DB-89D8-921D579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6177-5D44-4848-8834-C207E78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AE1-5AE5-4098-A99A-543EC07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32ED-2284-46AD-8DED-C0EA586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B017-9353-4C05-8567-A782A61C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E8E9-750C-495F-9D72-D5DB2EB4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9889-895B-4BD6-B5D6-3A3E1B8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9C818-EE99-4C37-A125-239C09B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A733-72E0-4FF7-BE50-DF1E7C1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8FC0-7CD0-450D-B8A3-759A4C72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F0AD-EA44-4B3F-9E35-9EB7E77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3F264-2066-4142-9630-52F13C59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5DB9-2289-440C-86E3-945A5D3B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D51-6F26-43E6-899F-1ACFD56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CA00-0F96-4F87-A312-B535D1F1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CBCC8-295B-470C-9DFC-23618272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8474-83EA-4259-A21E-847DE5BC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E35F7-4B1F-4FA3-B28C-FA9477E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D37D7-016A-4C98-BC7D-1EB8D610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7E85-6E7B-497F-86F2-BDE3433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0216-8F4A-4ADC-8576-94E8DF5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CF25-800F-4BFF-9590-9482D5D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9AF5-9E27-4870-82A4-9229917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F1C3-1832-4CB8-AB74-6C30EC28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AFC-A6B1-4139-8690-21807C99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F417-E70A-4B8F-9FF2-71FBB3DA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4273-DABB-4B76-9B11-47DC82BC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720F-F286-4CD2-BF8D-ED453E6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AD8B1-01D4-43DB-9730-0C5126A4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32C19-F9A9-488A-9226-2FC5A237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6978-6044-4636-A1F8-6B698373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80FA-9B0D-462D-B85D-84AD18F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76B2-8894-4DA6-A2CA-2AEAA68B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8DEC-A517-448D-8EE8-98F470E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0FC27-79BC-4931-AB36-9319357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05B-8B0A-4B5A-A32A-B558223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F2CA-A3C7-45F3-8C07-082B6542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649AF-FB67-4CA6-AB42-32CD9092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8DD50-91C4-433F-8306-B35D3F4C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E89C5-9B6B-4ACA-B6AA-9DE69B5D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F6BF3-9F47-419F-A284-5BDF9FE2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4263-6952-494A-AA45-BD1C0B8B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1931E-3F76-4044-9576-ABCD6AD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1D2FA-FDCB-446C-9FBA-F34EAA4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99AB-5142-4C77-99A4-B70FAA48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4282E-D55B-4F9A-9145-16F74C7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76B-2351-4D1D-9B4E-0C76801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9648-FEA8-4260-B376-FE7ADEC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0F5FD-6110-4793-9611-633703A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FB60-EB9A-4239-AF91-E65164B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73B6-18FF-4F15-B9B2-5C10BA23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0DFE-4030-47B7-BE9A-2B4920E0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ADB2-A25C-4584-97CE-B66CFBFF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6500-5BEB-4592-83BF-021BB50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4E9A7-AAFC-48BD-AF90-F4E9012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4954-3A0D-4DD5-B127-E023B2E8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EC638-0D34-464B-9FD3-4BDD0E53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A8B-E391-48D1-8F8A-1417F55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0530E-8840-48B5-AAA4-287BF4B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4CDE3-691B-4F41-A2BF-65708688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FF19-64A5-46C5-9D7B-EF5B52B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47621-875E-4B0C-A4CA-28177858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AB12-A1BD-49CB-837C-E282D73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D1EA-F89E-4AEA-9749-0EB37CB9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93B4-284E-41D1-BF92-5ED44274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5CCAB-2C58-4FA4-90DA-F7FFCCC1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BBF2B-56D2-484D-B577-ECD0C01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76E21-6515-46EB-8D16-C18D05D8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4F95-E781-4EC6-813A-ED442A651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F72-6E38-47BA-80C1-0F8185EA4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D1BD-9610-4DFB-8C28-BE2ADFD064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D0B1-7D9F-449F-BE09-B4264FD50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3388-5D27-48A8-8F7D-95CF1461A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EC19-8E50-469B-A94C-2B4081BF5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2E2E-3549-4907-935D-532A46BF73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344D-6D47-43C2-9529-5D8D35600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0C39-0851-4084-BF19-8C2A3A491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A9EA-6043-446C-A052-9021C5B17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9FE-429D-4B64-8082-007F77DE94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65B-5127-4F94-8334-2C48887E8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E0B-3B19-4671-BC5F-FE815FC7C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E73A-122E-4644-984C-E4E40B2E4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0CE-1BEB-4E1E-A4E8-812C6D266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4CC5-A92E-4DBE-BD16-23C0940B9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19F5-687C-4FDD-963A-B361E8AE8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9093-357B-4F53-81C0-498C93C17F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65E5-0A45-495B-83F1-CF5073839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B0D-87A1-4D52-ABA4-CD6C3501C3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A070-1853-4FAE-A17E-53565F521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521-2F24-4338-9194-77AB951C8B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80CB-6F98-4FC2-9F4C-95F6BC4E4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5A8-977B-41D3-9A1F-9313D06EB6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D13-D584-4AA1-8756-6C1D633AD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1376-3053-4E67-A7F3-22996FCA9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1A8-F0B5-4C3C-9195-94A37E0AB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EC0A-D4C2-4F11-876E-0554218F8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729D-231C-4C2B-8354-475E52AEC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F37-0AFC-4C02-B405-F61D81A7A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5579-F2AE-42E3-8EC1-C9A0354AC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016-D7AB-499A-867E-91638E05D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1745-F2EE-424C-A36C-757542E849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79A-2C67-4A84-AFBD-73511034C5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858-0430-4367-8BF6-E30AAE8D0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42B-76A6-4A83-AC7F-762CA0C06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B1F-6F6C-4AB7-AF69-9C67AA3060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AAD-F52F-41E9-AA3B-08C8C605F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77BA-62B1-4CFA-8F9C-6E9C5AACD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D126-1623-4579-8142-1515246C03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5916-0678-491E-8BFA-2CF024529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E1E8-7FBE-454F-91D0-C9488FD8F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166760" y="2509920"/>
            <a:ext cx="6810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519120" y="1433520"/>
            <a:ext cx="8105760" cy="3990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83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327024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1042920" y="380376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583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561960" y="1247760"/>
            <a:ext cx="8020080" cy="4362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187280" y="25369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187280" y="314172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187280" y="371628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187280" y="4292640"/>
            <a:ext cx="5545440" cy="447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187280" y="4869000"/>
            <a:ext cx="554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9520" y="873000"/>
            <a:ext cx="8724960" cy="5248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233880" y="1930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451640" y="19321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771640" y="27957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466040" y="2795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432108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632720" y="432108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635280" y="499896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596360" y="4956120"/>
            <a:ext cx="126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3635280" y="5589720"/>
            <a:ext cx="14414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7596360" y="5603760"/>
            <a:ext cx="126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66760" y="1123920"/>
            <a:ext cx="8610480" cy="46101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5651640" y="2722680"/>
            <a:ext cx="2449440" cy="2952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176960" y="1959120"/>
            <a:ext cx="15717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495360" y="1504800"/>
            <a:ext cx="8153280" cy="3848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879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5133960" y="2205000"/>
            <a:ext cx="3254400" cy="3240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6861240" y="15573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76120" y="1538280"/>
            <a:ext cx="8591760" cy="3781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3210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048280" y="30686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048280" y="371628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976640" y="4321080"/>
            <a:ext cx="37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57280" y="1500120"/>
            <a:ext cx="8029440" cy="3857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21940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149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4745160" y="2205000"/>
            <a:ext cx="40035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4673520" y="2852640"/>
            <a:ext cx="40039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4673520" y="3502080"/>
            <a:ext cx="400392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4673520" y="4149720"/>
            <a:ext cx="4003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28600" y="1457280"/>
            <a:ext cx="8686800" cy="3943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971640" y="34434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554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47600" y="1195560"/>
            <a:ext cx="8848800" cy="44668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116000" y="329868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16000" y="445140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826920" y="507060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71440" y="824040"/>
            <a:ext cx="86011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3:4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